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A1A-E60A-426E-925A-93759F5B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435-D42D-4053-A32A-21AD10E8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B5E-6A06-4B0B-8778-6774483F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315-09D4-43F5-9FAC-B9916C89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5F7-3D54-471E-9FCE-22721EF5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D13-FF0F-4542-8FE8-D3E90A19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592-B444-43AE-99EC-346BB038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71A-904D-40A8-B8D5-5A240E8F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A3B-2067-44A8-92AA-FB0DE8AC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E88-90A4-4F12-BBB9-D5170AB8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1B5-BDB0-4F28-9955-954652D4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E84-E663-47FD-87F6-49876DCB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7A36-AF77-44CE-A680-7745D1233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The Risk Functio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Based on a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ogistic Mod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2057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0" y="27432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467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48720" cy="6019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0" y="609588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0" y="2819520"/>
            <a:ext cx="1600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3581280"/>
            <a:ext cx="73911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543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39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72388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175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239240" cy="1257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371600" y="4114800"/>
            <a:ext cx="6781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23924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239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1752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2392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66680" y="3657600"/>
            <a:ext cx="7162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7010640" cy="1219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4724280"/>
            <a:ext cx="14479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259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2895480"/>
            <a:ext cx="7086600" cy="1063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3584520"/>
            <a:ext cx="1524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0866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3924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8960" y="297180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type of risk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3810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62320" y="5105520"/>
            <a:ext cx="4724280" cy="99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86200" y="4572000"/>
            <a:ext cx="2286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43000" y="502920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086600" y="51055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0720" y="838080"/>
            <a:ext cx="525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Numerical Example of a Risk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0" y="59436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6324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2:44:28Z</dcterms:modified>
  <cp:revision>43</cp:revision>
  <dc:subject/>
  <dc:title>PowerPoint Presentation</dc:title>
</cp:coreProperties>
</file>